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7192-34EC-4C55-8F11-75C2D51BBA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BD7-A95D-44B0-9E4F-53244B57A1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628-F6A0-463E-859F-CCBCEC6E7F0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E4F-1E1C-41DC-9BBF-AA0FB1137C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47EB-4F31-4AEE-B9C6-3BCBCC439F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F6D7-07ED-47B6-BDC7-25ED14A468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BB5E-537F-46C3-913D-2810FBE38A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955A-409D-46BC-AB5E-9B944E44B2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DB55-730A-42C1-98A7-B1FC9AFBF6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974-E7CB-4108-B3EA-379D85F2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CA2-F5F6-45FD-B260-739A6F9B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2B5-261C-4842-8590-9C087279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68F-6AE8-475E-A8F9-7E0630E2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5D72-7F05-4B65-B60B-2B1132BF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25F6-1F3C-4612-A09C-8BCBB8C2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260-FB29-4FCA-A8D6-17F830B5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31AE-702F-4E91-80BC-DCC44A58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684F-4566-48AC-88AE-F5F8723B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8C33-EDF5-4C64-83B3-D3322020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D432-E86D-41A6-ACF1-DBB3BE11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0F1-9E88-4190-BFC9-ED314027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081E-1F43-410C-9CC9-10216D7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2CD-50E2-4687-AA57-72B3BDD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373-3739-479A-AFFB-4A38518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BB30-0260-4064-AB7D-AFBB51E7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463-5B4E-4CB7-A6A5-A95486B1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4862-0174-4208-82BE-CB590B8E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9771-F2BD-4511-89C4-1154924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E2B4-959D-42BE-A148-4021315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05C4-4EAC-493E-B97F-061E8B2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47F0-9211-4424-8EE5-1DAA9C46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2A7-1928-4802-8B82-A593274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1C46-66F4-47C2-AC2E-CEF2ADF0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7750-748F-49DD-BFBE-7792579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0F82-E1F8-49F7-A4BC-73A7303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E1FA-8F28-4E3F-B161-DA02A45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B0D8-C52D-4CFA-9E41-5362CE0A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D1F0-5D5C-444C-A44C-933F595E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4D6B-9247-4F0A-9B57-11E30DF1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9039-B0B3-4A41-97D8-740D6858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D44D-2096-416C-A64D-3CA3609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097E-DD56-4AB3-9D35-CD39D77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F25-25A0-4FA2-834D-3054538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8FB4-E636-4955-A858-FBF9D99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0AB5-AF53-45AD-9119-3E2308F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9C17-F0EE-4DE7-8659-C1A7A4A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13EA-1A8F-4507-96C4-6FB12C5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C951-CF03-4E3E-9AB2-459248A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9727-0EF4-41D6-BEB5-3B7EED2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FC5B-0FDB-49F7-837A-0BFE761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4257-75BD-4060-BE60-B0A5263A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483A-F099-45D6-BC98-47464931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8011-FE35-4AB2-8226-C6481E08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098-5233-4929-B807-48C87AA2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5B39-8067-468D-A9CB-B12BEAA2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DFA4-50DE-4C80-B74C-196CBD3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9413-255F-4281-BCA2-3F5576E7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ECD92-C870-4149-9554-07F2BDF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C17E-DA34-43F9-BAF7-E940DB8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FFFF-EA93-4CDA-A66F-5CD596C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D598F-D47B-4656-B508-10A532D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2E72-C710-40F8-8934-AF61CED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4DEC-022D-4FAF-B12A-1B7703C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5A23-F4D7-4A7D-8FE8-F8DFB59C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6BA-2B4D-454D-9906-921DA2F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3F2C-D438-4732-AFA8-15A16929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522F2-AE9A-4769-8BA5-E88F40E4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228A-F481-4BCE-ACA3-45042F4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7066-F2C9-4403-A380-4D06EAB4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186E0-73B6-4F51-A238-6D40861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2C59-F9F8-42C3-8554-45EDEAA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6478-8FFC-4F29-968A-3082D354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3B74-803D-42D1-B8D4-33581F2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AC49-9FCA-408F-8B90-92D3EEB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CDDCA-25E0-4D64-9892-8E8AC66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D78-8506-4284-BAC6-A3F5CE0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3A2D-820F-4D4E-A3EF-3B612E30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ADDD-36D1-4303-BA82-E53269AD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6473-5366-43FD-B877-DD518183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289-F8A6-4FC1-BBCB-B155BC9E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D16-4528-47F9-87EA-C3D08BE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781-87E4-4614-840F-278198A5635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0C71-6EB7-4248-A697-379448C9FB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943C-D8B6-4D06-BF0E-61D0CDB9FEC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BD8-0FA6-480D-8F8D-BB3D4977123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2870-215A-4A91-AA7C-1B40065C54F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AE99-0990-49BC-83AF-C2DA1537D8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09A-E4E1-4E25-B685-F77252EC496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7E56-D627-4F9D-8A87-77CDC1388A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CD2-66C8-4445-B452-F0CDF14A864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0459-1C2A-4CBE-B107-D1493285EC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FADF-4F18-4AD0-A89A-2B5B96F8F0F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0FC9-1D7C-49A1-9D63-6686FEC2BC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cgepmps@previd&#234;ncia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1413000"/>
            <a:ext cx="103633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828440" y="501300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rasília, dezembro d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550800" y="692280"/>
            <a:ext cx="11090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opulação desprotegida por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3880" y="5877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Gráfico 4" descr=""/>
          <p:cNvPicPr/>
          <p:nvPr/>
        </p:nvPicPr>
        <p:blipFill>
          <a:blip r:embed="rId1"/>
          <a:stretch/>
        </p:blipFill>
        <p:spPr>
          <a:xfrm>
            <a:off x="1652760" y="1577880"/>
            <a:ext cx="8886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omens desprotegido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4"/>
          <p:cNvSpPr/>
          <p:nvPr/>
        </p:nvSpPr>
        <p:spPr>
          <a:xfrm>
            <a:off x="2610000" y="6093000"/>
            <a:ext cx="8526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Gráfico 5" descr=""/>
          <p:cNvPicPr/>
          <p:nvPr/>
        </p:nvPicPr>
        <p:blipFill>
          <a:blip r:embed="rId1"/>
          <a:stretch/>
        </p:blipFill>
        <p:spPr>
          <a:xfrm>
            <a:off x="1274760" y="1914480"/>
            <a:ext cx="9356760" cy="41814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ulheres desprotegida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áfico 6" descr=""/>
          <p:cNvPicPr/>
          <p:nvPr/>
        </p:nvPicPr>
        <p:blipFill>
          <a:blip r:embed="rId1"/>
          <a:stretch/>
        </p:blipFill>
        <p:spPr>
          <a:xfrm>
            <a:off x="1920960" y="1627200"/>
            <a:ext cx="849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amento de atividade trabalho principal da população desprotegidas com capacidade contrib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55520" y="1824120"/>
          <a:ext cx="9596520" cy="4425840"/>
        </p:xfrm>
        <a:graphic>
          <a:graphicData uri="http://schemas.openxmlformats.org/drawingml/2006/table">
            <a:tbl>
              <a:tblPr/>
              <a:tblGrid>
                <a:gridCol w="2948040"/>
                <a:gridCol w="1330560"/>
                <a:gridCol w="1328760"/>
                <a:gridCol w="1330200"/>
                <a:gridCol w="1328760"/>
                <a:gridCol w="1330200"/>
              </a:tblGrid>
              <a:tr h="795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rupamento de atividade trabalho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os Hom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as Mulh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ércio, reparação de veículos automotores e motocicle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681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91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473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stru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47.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75.6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formação, comunicação e atividades financeiras, imobiliárias, profissionais e administr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2.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5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48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dústria g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18.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36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utros Serviç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7.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12.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80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erviços domést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7.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03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80.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ransporte, armazenagem e correi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88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.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9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ojamento e alimentaçã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23.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6.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0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gricultura, pecuária, produção florestal, pesca e aquicultu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57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.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06.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ducação, saúde humana e serviços soci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2.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4.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dministração pública, defesa e seguridade socia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7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tividades mal defini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8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913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.621.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.535.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sexo e 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Gráfico 4" descr=""/>
          <p:cNvPicPr/>
          <p:nvPr/>
        </p:nvPicPr>
        <p:blipFill>
          <a:blip r:embed="rId1"/>
          <a:stretch/>
        </p:blipFill>
        <p:spPr>
          <a:xfrm>
            <a:off x="1700280" y="1914480"/>
            <a:ext cx="9217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regi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Gráfico 4" descr=""/>
          <p:cNvPicPr/>
          <p:nvPr/>
        </p:nvPicPr>
        <p:blipFill>
          <a:blip r:embed="rId1"/>
          <a:stretch/>
        </p:blipFill>
        <p:spPr>
          <a:xfrm>
            <a:off x="500040" y="1362240"/>
            <a:ext cx="10255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263520" y="981000"/>
            <a:ext cx="1152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renda em Salários Mínimos (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ráfico 4" descr=""/>
          <p:cNvPicPr/>
          <p:nvPr/>
        </p:nvPicPr>
        <p:blipFill>
          <a:blip r:embed="rId1"/>
          <a:stretch/>
        </p:blipFill>
        <p:spPr>
          <a:xfrm>
            <a:off x="474840" y="1500120"/>
            <a:ext cx="105422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34800" y="69228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escolaridade e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74800" y="2028960"/>
          <a:ext cx="10442520" cy="3935160"/>
        </p:xfrm>
        <a:graphic>
          <a:graphicData uri="http://schemas.openxmlformats.org/drawingml/2006/table">
            <a:tbl>
              <a:tblPr/>
              <a:tblGrid>
                <a:gridCol w="5211720"/>
                <a:gridCol w="1743120"/>
                <a:gridCol w="1743120"/>
                <a:gridCol w="1744560"/>
              </a:tblGrid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urso mais elevado que frequent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-esc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e alfabetização -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betização de jovens e adu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primário (element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ginásio (médio 1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fundamental ou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científico, clássico, etc. (médio 2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médio ou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- gradu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zação de nível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t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t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53880" y="90792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sexo e raça/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55520" y="2637000"/>
          <a:ext cx="9720360" cy="2808000"/>
        </p:xfrm>
        <a:graphic>
          <a:graphicData uri="http://schemas.openxmlformats.org/drawingml/2006/table">
            <a:tbl>
              <a:tblPr/>
              <a:tblGrid>
                <a:gridCol w="2430720"/>
                <a:gridCol w="2430360"/>
                <a:gridCol w="2428920"/>
                <a:gridCol w="2430360"/>
              </a:tblGrid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o/Ra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a/Pa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53880" y="907920"/>
            <a:ext cx="1152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Subsecretaria de Regime Geral de Previd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Coordenação-Geral de Estudos Previdenci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cgepmps@previdencia.go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2021-5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9880" y="2420640"/>
            <a:ext cx="1036296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tângulo de cantos arredondados 53"/>
          <p:cNvSpPr/>
          <p:nvPr/>
        </p:nvSpPr>
        <p:spPr>
          <a:xfrm>
            <a:off x="627120" y="2781360"/>
            <a:ext cx="3940200" cy="3941640"/>
          </a:xfrm>
          <a:custGeom>
            <a:avLst/>
            <a:gdLst>
              <a:gd name="textAreaLeft" fmla="*/ 192240 w 3940200"/>
              <a:gd name="textAreaRight" fmla="*/ 3747960 w 3940200"/>
              <a:gd name="textAreaTop" fmla="*/ 192240 h 3941640"/>
              <a:gd name="textAreaBottom" fmla="*/ 3749400 h 394164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06"/>
          <p:cNvSpPr/>
          <p:nvPr/>
        </p:nvSpPr>
        <p:spPr>
          <a:xfrm>
            <a:off x="17640" y="668160"/>
            <a:ext cx="12174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norama da proteção previdenciária da população ocupada com idade entre 16 e 59 anos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07"/>
          <p:cNvSpPr/>
          <p:nvPr/>
        </p:nvSpPr>
        <p:spPr>
          <a:xfrm>
            <a:off x="8874000" y="5621400"/>
            <a:ext cx="2982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Micro dados PNAD Contínua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Na PNAD Contínua essas pessoas se autodeclaram não contribui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Inclui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906.395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desprotegidos com rendimento ignorad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09"/>
          <p:cNvSpPr/>
          <p:nvPr/>
        </p:nvSpPr>
        <p:spPr>
          <a:xfrm>
            <a:off x="1008000" y="3933720"/>
            <a:ext cx="3206880" cy="916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s Regi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Próprios Militar e  Estatut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7,4 milhõ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10"/>
          <p:cNvSpPr/>
          <p:nvPr/>
        </p:nvSpPr>
        <p:spPr>
          <a:xfrm>
            <a:off x="1003320" y="2997360"/>
            <a:ext cx="3206880" cy="915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 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de Previdência Social – R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48,2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11"/>
          <p:cNvSpPr/>
          <p:nvPr/>
        </p:nvSpPr>
        <p:spPr>
          <a:xfrm>
            <a:off x="1003320" y="4869000"/>
            <a:ext cx="3206880" cy="917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GURADOS ESPECIAIS</a:t>
            </a:r>
            <a:r>
              <a:rPr b="0" lang="pt-BR" sz="14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12"/>
          <p:cNvSpPr/>
          <p:nvPr/>
        </p:nvSpPr>
        <p:spPr>
          <a:xfrm>
            <a:off x="1009800" y="6000840"/>
            <a:ext cx="3301920" cy="6379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NÃO CONTRIBUIN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10"/>
          <p:cNvSpPr/>
          <p:nvPr/>
        </p:nvSpPr>
        <p:spPr>
          <a:xfrm>
            <a:off x="5557680" y="3019320"/>
            <a:ext cx="2664000" cy="84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BENEFICI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800 m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10"/>
          <p:cNvSpPr/>
          <p:nvPr/>
        </p:nvSpPr>
        <p:spPr>
          <a:xfrm>
            <a:off x="5442120" y="4148280"/>
            <a:ext cx="2828880" cy="110016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DESPROTEGIDOS</a:t>
            </a:r>
            <a:r>
              <a:rPr b="1" lang="pt-BR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24,2 milhões (29,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10"/>
          <p:cNvSpPr/>
          <p:nvPr/>
        </p:nvSpPr>
        <p:spPr>
          <a:xfrm>
            <a:off x="4727520" y="5653080"/>
            <a:ext cx="194472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&lt; 1 SALÁRIO MÍN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7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10"/>
          <p:cNvSpPr/>
          <p:nvPr/>
        </p:nvSpPr>
        <p:spPr>
          <a:xfrm>
            <a:off x="6743880" y="5653080"/>
            <a:ext cx="205236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IGUAL OU MAIOR 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 SALÁRIO MÍNI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Conector de seta reta 31"/>
          <p:cNvCxnSpPr>
            <a:stCxn id="269" idx="5"/>
            <a:endCxn id="270" idx="2"/>
          </p:cNvCxnSpPr>
          <p:nvPr/>
        </p:nvCxnSpPr>
        <p:spPr>
          <a:xfrm flipV="1">
            <a:off x="4311360" y="3547800"/>
            <a:ext cx="1246680" cy="269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Conector de seta reta 44"/>
          <p:cNvCxnSpPr>
            <a:stCxn id="271" idx="3"/>
            <a:endCxn id="273" idx="0"/>
          </p:cNvCxnSpPr>
          <p:nvPr/>
        </p:nvCxnSpPr>
        <p:spPr>
          <a:xfrm>
            <a:off x="6719400" y="5248440"/>
            <a:ext cx="11962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Conector de seta reta 46"/>
          <p:cNvCxnSpPr>
            <a:stCxn id="271" idx="3"/>
            <a:endCxn id="272" idx="0"/>
          </p:cNvCxnSpPr>
          <p:nvPr/>
        </p:nvCxnSpPr>
        <p:spPr>
          <a:xfrm flipH="1">
            <a:off x="5844600" y="5248440"/>
            <a:ext cx="875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Conector de seta reta 182"/>
          <p:cNvCxnSpPr>
            <a:stCxn id="269" idx="5"/>
          </p:cNvCxnSpPr>
          <p:nvPr/>
        </p:nvCxnSpPr>
        <p:spPr>
          <a:xfrm flipV="1">
            <a:off x="4311720" y="4822560"/>
            <a:ext cx="113400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Conector reto 124"/>
          <p:cNvSpPr/>
          <p:nvPr/>
        </p:nvSpPr>
        <p:spPr>
          <a:xfrm flipH="1">
            <a:off x="892080" y="2901960"/>
            <a:ext cx="7920" cy="290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ector reto 132"/>
          <p:cNvSpPr/>
          <p:nvPr/>
        </p:nvSpPr>
        <p:spPr>
          <a:xfrm>
            <a:off x="892080" y="2916360"/>
            <a:ext cx="9417240" cy="7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ector reto 135"/>
          <p:cNvSpPr/>
          <p:nvPr/>
        </p:nvSpPr>
        <p:spPr>
          <a:xfrm flipV="1">
            <a:off x="892080" y="5803920"/>
            <a:ext cx="3497400" cy="2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onector reto 137"/>
          <p:cNvSpPr/>
          <p:nvPr/>
        </p:nvSpPr>
        <p:spPr>
          <a:xfrm>
            <a:off x="4510080" y="3738600"/>
            <a:ext cx="0" cy="4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Conector de seta reta 160"/>
          <p:cNvCxnSpPr>
            <a:endCxn id="283" idx="0"/>
          </p:cNvCxnSpPr>
          <p:nvPr/>
        </p:nvCxnSpPr>
        <p:spPr>
          <a:xfrm flipH="1">
            <a:off x="10314720" y="2911320"/>
            <a:ext cx="10440" cy="1254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4" name="Retângulo de cantos arredondados 2104387"/>
          <p:cNvSpPr/>
          <p:nvPr/>
        </p:nvSpPr>
        <p:spPr>
          <a:xfrm>
            <a:off x="122400" y="1844640"/>
            <a:ext cx="49654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1d1ff"/>
              </a:gs>
              <a:gs pos="100000">
                <a:srgbClr val="e4f2ff"/>
              </a:gs>
            </a:gsLst>
            <a:lin ang="16200000"/>
          </a:gradFill>
          <a:ln w="9360">
            <a:solidFill>
              <a:srgbClr val="5d9a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opulação ocupada de 16 a 59 anos: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83,1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reto 2104437"/>
          <p:cNvSpPr/>
          <p:nvPr/>
        </p:nvSpPr>
        <p:spPr>
          <a:xfrm>
            <a:off x="4330800" y="2901960"/>
            <a:ext cx="28440" cy="288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10"/>
          <p:cNvSpPr/>
          <p:nvPr/>
        </p:nvSpPr>
        <p:spPr>
          <a:xfrm>
            <a:off x="8858160" y="4165560"/>
            <a:ext cx="2638440" cy="1100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OTEG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58,9 milhões (70,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Conector de seta reta 69"/>
          <p:cNvCxnSpPr>
            <a:stCxn id="270" idx="5"/>
          </p:cNvCxnSpPr>
          <p:nvPr/>
        </p:nvCxnSpPr>
        <p:spPr>
          <a:xfrm>
            <a:off x="8221680" y="3336480"/>
            <a:ext cx="2099520" cy="3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7" name="Seta para baixo 1"/>
          <p:cNvSpPr/>
          <p:nvPr/>
        </p:nvSpPr>
        <p:spPr>
          <a:xfrm>
            <a:off x="2495520" y="2492280"/>
            <a:ext cx="287280" cy="289080"/>
          </a:xfrm>
          <a:prstGeom prst="downArrow">
            <a:avLst>
              <a:gd name="adj1" fmla="val 50000"/>
              <a:gd name="adj2" fmla="val 50313"/>
            </a:avLst>
          </a:prstGeom>
          <a:solidFill>
            <a:srgbClr val="4a66ac"/>
          </a:solidFill>
          <a:ln w="25560">
            <a:solidFill>
              <a:srgbClr val="34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por UF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tângulo 4"/>
          <p:cNvSpPr/>
          <p:nvPr/>
        </p:nvSpPr>
        <p:spPr>
          <a:xfrm>
            <a:off x="2711520" y="6165720"/>
            <a:ext cx="85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Gráfico 5" descr=""/>
          <p:cNvPicPr/>
          <p:nvPr/>
        </p:nvPicPr>
        <p:blipFill>
          <a:blip r:embed="rId1"/>
          <a:stretch/>
        </p:blipFill>
        <p:spPr>
          <a:xfrm>
            <a:off x="768240" y="1579680"/>
            <a:ext cx="10728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479520" y="6308640"/>
            <a:ext cx="1130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c/IBGE – 2017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055520" y="692280"/>
            <a:ext cx="10080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eção previdenciária da população ocupada com idade entre 16 e 59 anos, por idade e sexo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áfico 6" descr=""/>
          <p:cNvPicPr/>
          <p:nvPr/>
        </p:nvPicPr>
        <p:blipFill>
          <a:blip r:embed="rId1"/>
          <a:stretch/>
        </p:blipFill>
        <p:spPr>
          <a:xfrm>
            <a:off x="1274760" y="2060640"/>
            <a:ext cx="9863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055520" y="2421000"/>
            <a:ext cx="10080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1.2 Perfil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1055520" y="692280"/>
            <a:ext cx="10080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proteção de pessoas ocupadas com idade entre 16 e 59 anos por grupo de atividade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008600" y="6237360"/>
            <a:ext cx="754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.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Gráfico 5" descr=""/>
          <p:cNvPicPr/>
          <p:nvPr/>
        </p:nvPicPr>
        <p:blipFill>
          <a:blip r:embed="rId1"/>
          <a:stretch/>
        </p:blipFill>
        <p:spPr>
          <a:xfrm>
            <a:off x="981000" y="2060640"/>
            <a:ext cx="105886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90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  <a:ea typeface="Arial"/>
              </a:rPr>
              <a:t>Percentual de proteção de pessoas ocupadas por escolaridade, Brasil - 20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Espaço Reservado para Conteúdo 4" descr=""/>
          <p:cNvPicPr/>
          <p:nvPr/>
        </p:nvPicPr>
        <p:blipFill>
          <a:blip r:embed="rId1"/>
          <a:stretch/>
        </p:blipFill>
        <p:spPr>
          <a:xfrm>
            <a:off x="609480" y="2114640"/>
            <a:ext cx="10972800" cy="4425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31880" y="6308640"/>
            <a:ext cx="107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055520" y="2349360"/>
            <a:ext cx="10080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8-12-05T19:37:39Z</dcterms:modified>
  <cp:revision>697</cp:revision>
  <dc:subject/>
  <dc:title>Demografia</dc:title>
</cp:coreProperties>
</file>